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F2D780-524F-4C71-A5B9-2442D72755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6535BF-8F74-4E57-8EF0-358C1296DE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E9A749-16B5-4DFB-9138-E632F4B3A4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FFADAD-1A58-4C0D-AE79-37D3EDEA1C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C17F49-F6A8-4F3D-98E2-36C43A54B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7FF87-9E5C-43C3-B370-4C10F3F7C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BFD19-C4AC-4D21-A877-FE1E4206E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AABAA-E380-4CA6-B1EF-48CD83250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13297-BD9F-491C-BFF5-F18E3811C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7A3AA-0498-4772-9FB5-ED22FE62A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98A78-B9F3-4769-A48D-9E09B332C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FDBF6B-3598-48AA-9864-CF2AAD74B8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D55A3-B04B-4191-95AB-C85DAAE47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84C79-2E37-4A86-A36F-384C85C9B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D5455-BCE2-4D68-8277-7C7A07915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B7D39D-5D9D-4116-93BF-39492C804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ABAFBA-EC72-4750-8543-342DAEDA6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BC7601-21E8-4B6C-B97B-5AC9FEFA7A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97AC87-D8E8-4297-8237-FF4B598201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CDFF98-DDB1-4CD6-982D-B3B482561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4D8AAB-D073-472F-B2F0-3607987A5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0CED2F-9527-42A5-B2FD-6FA1859C1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544B00-7CF5-4AE0-8207-439B35B0E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AE4201-622F-4B58-BE54-DE837BCC8B8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5B65-EB83-4986-BCFD-33F1862E72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D1F5-FDB6-4F0C-91D2-817914287C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English</a:t>
            </a:r>
            <a:endParaRPr b="0" lang="en-US" sz="45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ct. 8</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genda</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0</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k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OL</a:t>
            </a:r>
            <a:endParaRPr b="0" lang="en-US" sz="3900" spc="-1" strike="noStrike">
              <a:solidFill>
                <a:srgbClr val="ffffff"/>
              </a:solidFill>
              <a:latin typeface="Arial"/>
            </a:endParaRPr>
          </a:p>
        </p:txBody>
      </p:sp>
      <p:sp>
        <p:nvSpPr>
          <p:cNvPr id="1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June 6 1642 an earthquake struck Port Royal jamaica and Port Royal was the home of many pirates and all the riches of the pirates fell into the sea along with the city so scuba divers are still looking for pirates treasure ther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alogy:family::etymology:_________</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ar:unendurable::see:___________</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ssignment</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Ch. 10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Packet on your ow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Friday</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Ch. 1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n AR book with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13:23:59Z</dcterms:created>
  <dc:creator>VMS</dc:creator>
  <dc:description/>
  <dc:language>en-US</dc:language>
  <cp:lastModifiedBy>VMS</cp:lastModifiedBy>
  <dcterms:modified xsi:type="dcterms:W3CDTF">2009-10-08T16:01:55Z</dcterms:modified>
  <cp:revision>2</cp:revision>
  <dc:subject/>
  <dc:title>English</dc:title>
</cp:coreProperties>
</file>